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578485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57852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28680" y="691920"/>
            <a:ext cx="513072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1120" y="4343400"/>
            <a:ext cx="424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79600" y="0"/>
            <a:ext cx="25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9600" y="8686800"/>
            <a:ext cx="25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686800"/>
            <a:ext cx="250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250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3192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1120" y="4343400"/>
            <a:ext cx="424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79600" y="0"/>
            <a:ext cx="25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9600" y="8686800"/>
            <a:ext cx="25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686800"/>
            <a:ext cx="250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250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3192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1120" y="4343400"/>
            <a:ext cx="424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72920" y="4128120"/>
            <a:ext cx="87404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72920" y="412812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51680" y="412812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28160" y="197604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83400" y="197604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72920" y="412812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28160" y="412812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83400" y="412812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72920" y="607680"/>
            <a:ext cx="874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2920" y="412812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51680" y="412812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72920" y="4128120"/>
            <a:ext cx="87404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996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71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7040" y="30960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7040" y="365616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7040" y="450072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7040" y="533412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7040" y="616752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7040" y="197640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7040" y="2822400"/>
            <a:ext cx="428760" cy="381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57040" y="114300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ITLE III UP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520" y="3200040"/>
            <a:ext cx="72392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100" spc="-1" strike="noStrike">
                <a:solidFill>
                  <a:srgbClr val="990099"/>
                </a:solidFill>
                <a:latin typeface="Arial"/>
              </a:rPr>
              <a:t>Summary of Data Analysis on Retention, Persistence, Performance</a:t>
            </a: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003399"/>
                </a:solidFill>
                <a:latin typeface="Arial"/>
              </a:rPr>
              <a:t>March, 2003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e Excerpt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2920" y="2133720"/>
            <a:ext cx="874044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etention research suggests that student commitment to educational and career goals is perhaps the strongest factor associated with student persistence to degree completion” (Wycoff 1999). (p.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e Excerpts…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2920" y="2209680"/>
            <a:ext cx="87404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tudies suggest that students’ final decisions about majors/careers do </a:t>
            </a:r>
            <a:r>
              <a:rPr b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occur before entering college; instead they occur in colleg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71600" y="4572000"/>
          <a:ext cx="7772400" cy="14475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: “It is probably more accurate to assume that 75+% of all students entering college are actually undecided about careers.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e Excerpts…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2920" y="2209680"/>
            <a:ext cx="87404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rolonged indecision about an academic major and career goals is correlated with student attri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Lack of certainty about a major/career decision” is number one reason students drop out of college. (Noel-Levitz, p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ummary of Advising Implic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976040"/>
            <a:ext cx="852300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s new to the College and enrolled in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Studies since FA’02 must complete a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PS Plan prior to completing 20 credits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tions for completing CAPS Plan includ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675"/>
              </a:spcBef>
              <a:buClr>
                <a:srgbClr val="003399"/>
              </a:buClr>
              <a:buFont typeface="Times New Roman"/>
              <a:buChar char="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RT 1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675"/>
              </a:spcBef>
              <a:buClr>
                <a:srgbClr val="003399"/>
              </a:buClr>
              <a:buFont typeface="Times New Roman"/>
              <a:buChar char="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SY 1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675"/>
              </a:spcBef>
              <a:buClr>
                <a:srgbClr val="003399"/>
              </a:buClr>
              <a:buFont typeface="Times New Roman"/>
              <a:buChar char="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ternate Pa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We’ve Taken to Suppor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Pl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2920" y="2133720"/>
            <a:ext cx="9513720" cy="39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ndout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700"/>
              </a:spcBef>
              <a:buClr>
                <a:srgbClr val="003399"/>
              </a:buClr>
              <a:buFont typeface="Arial"/>
              <a:buChar char="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 Sections of ORT 110 scheduled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Summer 03/Fall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700"/>
              </a:spcBef>
              <a:buClr>
                <a:srgbClr val="003399"/>
              </a:buClr>
              <a:buFont typeface="Arial"/>
              <a:buChar char="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Sections of PSY 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700"/>
              </a:spcBef>
              <a:buClr>
                <a:srgbClr val="003399"/>
              </a:buClr>
              <a:buFont typeface="Arial"/>
              <a:buChar char="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 600 available seats*(We’ll add as we need to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700"/>
              </a:spcBef>
              <a:buClr>
                <a:srgbClr val="003399"/>
              </a:buClr>
              <a:buFont typeface="Arial"/>
              <a:buChar char="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 800 students need to complete a CAPS Plan by December ‘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905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T 1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es 3 major issues that place students at risk for failure or withdraw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2920" y="2361960"/>
            <a:ext cx="87404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ck of clear career direction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ak skills in reading, writing and/or math and how to learn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ck of familiarity/connection with College “culture” and “expectations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T 1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2920" y="2209320"/>
            <a:ext cx="87404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ment for General Studies Student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y recommended for any student taking developmental cour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4648320"/>
            <a:ext cx="8381880" cy="137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emb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QCC attrition rate for developmental students is _____%; or every ______ out of _____ students is likely to be gone after one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T 1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RT 110 sections are now uni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can enroll in any section regardless of general career intere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et’s All get on board and support students’ success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ELINE DAT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hort FA’01:  Students Enrolled in 7 development Course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438280"/>
          <a:ext cx="8763120" cy="99072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365200"/>
                <a:gridCol w="220680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eme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ersistence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Attrition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38080" y="3429000"/>
          <a:ext cx="8763120" cy="60912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381400"/>
                <a:gridCol w="2190600"/>
              </a:tblGrid>
              <a:tr h="60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200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38080" y="4038480"/>
          <a:ext cx="8763120" cy="60984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381400"/>
                <a:gridCol w="219060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38080" y="4648320"/>
          <a:ext cx="8763120" cy="60948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381400"/>
                <a:gridCol w="219060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200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8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2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38080" y="5257800"/>
          <a:ext cx="8763120" cy="60948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381400"/>
                <a:gridCol w="219060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1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9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ELINE DATA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ued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hort FA’01:  Students Enrolled in 7 development Course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2920" y="2666880"/>
            <a:ext cx="90565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one semes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 L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8.9% or 30% of all students enrolled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velopmental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one ye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 L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8.2% of all students enrolled in any developmental cours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line Data FA ’01 Cohor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rasted with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ilot Section FA ’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73152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line Persistence FA’01    71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429000"/>
            <a:ext cx="73152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 091 Persistence               78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4038480"/>
            <a:ext cx="73152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 096 Persistence               77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4648320"/>
            <a:ext cx="73152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 099 Persistence               80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5257800"/>
            <a:ext cx="73152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ORT 110 Persistence               89.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4520" y="4038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9.6%</a:t>
            </a:r>
            <a:r>
              <a:rPr b="1" lang="en-US" sz="3200" spc="-1" strike="noStrike">
                <a:solidFill>
                  <a:srgbClr val="990099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34520" y="4648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13.2%</a:t>
            </a:r>
            <a:r>
              <a:rPr b="1" lang="en-US" sz="3200" spc="-1" strike="noStrike">
                <a:solidFill>
                  <a:srgbClr val="990099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452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6%</a:t>
            </a:r>
            <a:r>
              <a:rPr b="1" lang="en-US" sz="3200" spc="-1" strike="noStrike">
                <a:solidFill>
                  <a:srgbClr val="990099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8200" y="3429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10.5%</a:t>
            </a:r>
            <a:r>
              <a:rPr b="1" lang="en-US" sz="3200" spc="-1" strike="noStrike">
                <a:solidFill>
                  <a:srgbClr val="990099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038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4648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257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de Performanc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arisons FA ‘0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3280" y="2057040"/>
            <a:ext cx="9208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Experimental/Treatment Group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lots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ENG 091, ENG 096, MAT 099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3.9%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“C” or high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Control Grou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n-Pilots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ENG 091, ENG 096, MAT 099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58.2%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“C” or high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5638680"/>
          <a:ext cx="9067680" cy="912960"/>
        </p:xfrm>
        <a:graphic>
          <a:graphicData uri="http://schemas.openxmlformats.org/drawingml/2006/table">
            <a:tbl>
              <a:tblPr/>
              <a:tblGrid>
                <a:gridCol w="9067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ots performed at a rate of 9.8% higher than </a:t>
                      </a:r>
                      <a:br>
                        <a:rPr sz="2700"/>
                      </a:b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pilots or Control Grou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7408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de Performance Comparison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With/Without ORT 110 FA ‘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9829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mental Pilots &amp; ORT 110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C- or higher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75.4% of students in developmental pilots received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ades of “C” or higher in Pilots </a:t>
            </a:r>
            <a:br>
              <a:rPr sz="31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ENG 091, ENG 096, MAT 099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mental Pilots without ORT 110 = 60.7% of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s in Pilot sections received grades of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C” or higher in Pilots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ENG 091, ENG 096, MAT0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19320" y="5638680"/>
          <a:ext cx="8762760" cy="912960"/>
        </p:xfrm>
        <a:graphic>
          <a:graphicData uri="http://schemas.openxmlformats.org/drawingml/2006/table">
            <a:tbl>
              <a:tblPr/>
              <a:tblGrid>
                <a:gridCol w="8762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 110 influence of 24.2% increase in successful performance in Pilot compared with control grou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/Importance of First-Yea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perience Cour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98020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0920"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0920"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ORT 110 = First-Year Experience Cours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0920"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ost researched course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 Higher Education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ithin the last 20 years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9296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rpts fro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Academic Advisement and Student Retention:  Empirical Connections &amp; Systemic Interventions”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y Dr. Joseph B. Cuse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2920" y="2743200"/>
            <a:ext cx="87404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First Year experience courses began 20+ years ago.”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003399"/>
                </a:solidFill>
                <a:latin typeface="Arial"/>
              </a:rPr>
              <a:t>More than 50% of students who withdraw do so in their first year!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5257800"/>
          <a:ext cx="7772400" cy="13240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QCC, 50% of students in developmental courses do withdraw, and 97% of them withdraw in their first year!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e Excerpts…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2920" y="2209680"/>
            <a:ext cx="87404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3640"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Student retention is an assessment outcome.”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3640"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003399"/>
                </a:solidFill>
                <a:latin typeface="Arial"/>
              </a:rPr>
              <a:t>Student retention is now a “Core Indicator” of student success”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3640"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Student retention efforts designed to manage enrollment are estimated to be 3-5 times more cost effective than recruitment efforts”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20:56:11Z</dcterms:created>
  <dc:creator>bzabka</dc:creator>
  <dc:description/>
  <dc:language>en-US</dc:language>
  <cp:lastModifiedBy>bzabka</cp:lastModifiedBy>
  <dcterms:modified xsi:type="dcterms:W3CDTF">2003-03-27T14:49:51Z</dcterms:modified>
  <cp:revision>7</cp:revision>
  <dc:subject/>
  <dc:title>Baseline Data FA ’01 Cohort Contrasted with Pilot Section FA ’02</dc:title>
</cp:coreProperties>
</file>