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6589-B8F4-4907-8CC8-84BBD368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8E25-4BC4-4494-8117-1DDDD472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3F88-FDA3-42C1-87A7-4B9AEA31C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A898-06EB-464C-8E76-1F583381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D58F-A681-47DC-ABEB-03EAA5BD0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7E30-E09B-4D82-9D44-2A1A80BF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DC67-6707-4257-AF3E-D8B591FF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5386-DEAE-4546-9733-F27EB3CD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75DA-85E3-445A-BFFB-56CCA23D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FC0F-F561-4B4D-B43F-AF76BD0D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ED26-0312-408E-A1F3-CCA0D0BC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5954-74B4-4D2D-A789-0A363C35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D9A7-93B1-4251-BCFB-0787999F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A451-D92F-46E6-BCA1-88A6B9B6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A07B-289F-4371-B703-8C36896E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3AFB-6A26-490B-9AEB-0795C2696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F19B-6DA0-46E9-B2A7-BBAF7BF28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932A-60A9-45CD-8DA8-710D0D7C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6F3A-D84A-4446-85E2-2E3FA858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AD1F-69FE-4386-8770-018604C8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7A0D-C5DA-46C4-BC53-495FAE77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5CF0-A117-4291-AA12-9721F24E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21C4-D577-4964-B3E8-EC632892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C230-5AFB-4F7A-A038-461D0745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37FA-D200-4193-B251-6E4E0F3E0C9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C9BF-3D88-4CC4-B44C-81AB759BCCE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acada.ksu.edu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news.bbc.co.uk/olmedia/1310000/images/_1312479_nike.jpg&amp;imgrefurl=http://news.bbc.co.uk/1/hi/uk/1312479.stm&amp;h=180&amp;w=150&amp;sz=3&amp;tbnid=P-nCyF-DALoJ:&amp;tbnh=96&amp;tbnw=80&amp;start=4&amp;prev=/images%3Fq%3Dnike%2Blogo%26hl%25%20" TargetMode="External"/><Relationship Id="rId2" Type="http://schemas.openxmlformats.org/officeDocument/2006/relationships/hyperlink" Target="http://images.google.com/imgres?imgurl=news.bbc.co.uk/olmedia/1310000/images/_1312479_nike.jpg&amp;imgrefurl=http://news.bbc.co.uk/1/hi/uk/1312479.stm&amp;h=180&amp;w=150&amp;sz=3&amp;tbnid=P-nCyF-DALoJ:&amp;tbnh=96&amp;tbnw=80&amp;start=4&amp;prev=/images%3Fq%3Dnike%2Blogo%26hl%25%20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NACADA</a:t>
            </a:r>
            <a:br>
              <a:rPr sz="5400"/>
            </a:br>
            <a:r>
              <a:rPr b="1" lang="en-US" sz="54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SUMMER </a:t>
            </a:r>
            <a:br>
              <a:rPr sz="4800"/>
            </a:br>
            <a:r>
              <a:rPr b="1" lang="en-US" sz="48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INSTITUTE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(National Academic Advising Association)</a:t>
            </a:r>
            <a:br>
              <a:rPr sz="3200"/>
            </a:br>
            <a:r>
              <a:rPr b="0" lang="en-US" sz="3200" spc="-1" strike="noStrike" u="sng">
                <a:solidFill>
                  <a:srgbClr val="9c004e"/>
                </a:solidFill>
                <a:uFillTx/>
                <a:latin typeface="Times New Roman"/>
                <a:ea typeface="Times New Roman"/>
                <a:hlinkClick r:id="rId1"/>
              </a:rPr>
              <a:t>http://www.nacada.ksu.edu/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QCC Participants</a:t>
            </a:r>
            <a:r>
              <a:rPr b="0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: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Maura Tighe-Stickles, Maria Addison, Joan Ladik, Colleen Dohe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Continue to use O’Banion’s model as it emphasizes the necessary steps, especially the sequence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</a:t>
            </a: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Career and life goals as first point of discuss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exploration of life goal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exploration of vocational/career goal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choice of program/major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choice of course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scheduling of courses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Advisor Professional Developme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Consultation Points and Recommenda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Consider Ordering Training Sequence to align with how a student first experience the college (testing first, career and academic planning questions next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</a:t>
            </a: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Consider placing the “Nuts and Bolts of Advising” before counseling and communication topics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</a:t>
            </a: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may be less threatening for som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Consultation Points and Recommendation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You’ve covered the main topics under your plan, it looks goo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Have those in training take the actual placement tes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Include “Current Trends” as a topic and review terminology us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Consultation Points and Recommenda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Consider promoting/developing Master Adviso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Integrate NACADA’s 3 spheres of advisor development: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 T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Conceptual (what must an advisor understand?)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 T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Informational (what must an advisor know?)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 T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Relational (what must an advisor demonstrate?)  communication skills, rapport-building skills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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Change terminology (topics) on training plan based on Tom’s suggestio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Consultation Points and Recommenda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Advising training should be across the campus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</a:t>
            </a: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all involv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More than one training track depending on experienc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Hold a training symposium for one day once a year (Univ of Pittsburgh, Univ of Michigan, and Univ of Texas at Arlington); brown bag lunches on campu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University of Washington; Rochester Institute of Tech, St. Mary’s of C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NACADA training tapes and look at Noel Levitz training tapes as wel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Find Carol Ryan’s work on  the similarities between advising and teaching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Fox Valley Technical College- advisor training on-lin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4267080"/>
            <a:ext cx="7925040" cy="15242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Auburn University- Faculty advisor training at different levels (Kathy Stockwel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NACADA graduate certificate on-line!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Purchase new NACADA tapes, they will be out December 200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Utilize consultant 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 TUR"/>
                <a:ea typeface="Times New Roman"/>
              </a:rPr>
              <a:t>Tom Brown</a:t>
            </a: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 as keynote for All College Day – “Pathways to Persistence” 3 hour presentation/workshop format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QCC Advising Mis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Consultation Points and Recommenda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Mission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- should be concise, explicit and to the poi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- reflect institutional values as they pertain to the  </a:t>
            </a: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purpose and goals of academic advis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- should be able to be clearly articulated by our </a:t>
            </a: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constituencies – faculty, staff and stude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cc"/>
                </a:solidFill>
                <a:uFillTx/>
                <a:latin typeface="Times New Roman TUR"/>
                <a:ea typeface="Times New Roman"/>
              </a:rPr>
              <a:t>Advising Priorities and Initiativ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- clearly articulated for achieving the mission (i.e. – to </a:t>
            </a: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make the mission become a reality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Gordon, V.N. , Habley,, W.R. and Associates. (2000) Academic Advising – A Comprehensive  Handbook , San Francisco:  Jossey-Bass, Chapter 1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Our Charge:</a:t>
            </a:r>
            <a:br>
              <a:rPr sz="4800"/>
            </a:b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Bring what we have been working on during Advising Task Force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Receive Consultation/and Feedback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Revise and Refine Materials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Locate excellent resources, including possible presenters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Formulate Next Step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Group Advis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Consultation Points and Recommend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Group advising can be used as an effective tool during student orientation. Advising on the “registration process” IS THE FOCU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Advantages to group advising – time saving, economical, establish peer contacts, reduce repetition; ratio can be 30:1 on specific topics or program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Consultation Points and Recommenda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MARKETING group advising is the key piece.  If students are used to a particular advising process, there needs to be a good marketing plan in action prior to implementati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Mandatory? Can we make is part of orientation, or make it mandator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Staffing –do we have sufficient staff to provide this service; space for this servic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Consultation Points and Recommenda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When students call in or walk in to the Advising center who have taken the assessment test, inform them of specific group advising sessions (ie – 10am, 2pm, 5pm daily?) and schedule accordingl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If students have not assessed, schedule assessment one week out (gives them time to practice) and schedule advising sess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Consultation Points and Recommenda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Disadvantages to group advising – less personal, distractions, inconvenience for student, lack of confidentiality, 40+ programs must be learned to meet with group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Do not implementing group advising during peak time periods, waiting until staff is trained, and students are well informed of new proc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-King, N.S. “Advising Students in Groups”  In V.N. Gordon and W.R. Habley (eds), Academic Advising:  A Comprehensive Handbook, San Francisco, CA:  Jossey-Bass, 2000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-Erik White, consultant on advising and orientation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Other Important Information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from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onferenc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*ADVISING IS TEACHING!  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What are the shared goals of both </a:t>
            </a: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advising and teaching?  Use as a </a:t>
            </a: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starting point in discussion.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 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 *Academic Advising (by its very nature) is </a:t>
            </a: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BORDER CROSSING.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 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*Advising must be a Coordinated,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Collaborative and Comprehensive </a:t>
            </a: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Process.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*From a legal standpoint we need to clearly inform students of WHAT advisors do and help students know what their own responsibilities are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*Comprehensive CROSS-TRAINING of all faculty/staff is essential in the ONE STOP Concept.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4 Major Areas Addressed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 </a:t>
            </a: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Developmental Advising Model Draf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(attention to stage On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 </a:t>
            </a: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Advisor Professional Develop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 </a:t>
            </a: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QCC Advising Mis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 </a:t>
            </a: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Group Advising and Use of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Peer Advis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*Review Tinto’s work on student development, retention and advising. 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“Effective retention programs have come to understand that academic advising is at the very core of successful institutional efforts to educate and retain students.”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*See Alice Reinerz’s (UMichigan) work on including learning outcomes on student satisfaction surveys.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*When hiring faculty, is there anything in the job description or posting that refers to advising; does anyone speak to an advising philosophy during the interview?</a:t>
            </a:r>
            <a:br>
              <a:rPr sz="2400"/>
            </a:br>
            <a:r>
              <a:rPr b="1" lang="en-US" sz="44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*Effective academic advising cannot be done in isolation.  Advising occurs in places other than the advising center; ie, career exploration office, orientation, and requires collaboration among all campus resources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*Assessment must include more than the results/data.  Need to have the “next steps” or what will be done with the results.</a:t>
            </a:r>
            <a:br>
              <a:rPr sz="2400"/>
            </a:br>
            <a:r>
              <a:rPr b="1" lang="en-US" sz="44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*The need for advising knowledge and skills in regard to student development theories.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 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*Rewarding good advising – suggestions were: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advisor appreciation lunch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advisor of the month in the college </a:t>
            </a:r>
            <a:r>
              <a:rPr b="1" lang="en-US" sz="28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newspaper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*</a:t>
            </a:r>
            <a:r>
              <a:rPr b="1" lang="en-US" sz="28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Beth Yarborough, at Auburn University in Georgia</a:t>
            </a:r>
            <a:r>
              <a:rPr b="1" lang="en-US" sz="24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  (resource)</a:t>
            </a:r>
            <a:br>
              <a:rPr sz="2400"/>
            </a:br>
            <a:r>
              <a:rPr b="1" lang="en-US" sz="28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	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27560" y="2860560"/>
            <a:ext cx="85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>
            <a:hlinkClick r:id="rId1"/>
          </p:cNvPr>
          <p:cNvSpPr/>
          <p:nvPr/>
        </p:nvSpPr>
        <p:spPr>
          <a:xfrm>
            <a:off x="397656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3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74840" y="2057400"/>
            <a:ext cx="2540160" cy="30481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438280" y="510552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Arial Black"/>
              </a:rPr>
              <a:t>JUST DO IT!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17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Consultation Points and       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Recommendation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Resourc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Next Step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Developmental Advising Model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(stage one)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Consultation Points and Recommendations</a:t>
            </a:r>
            <a:r>
              <a:rPr b="1" i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Excellent Model; unique, comprehensive, should be shared and replicated.  The first semester is clearly mapped ou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CAPS plan is particularly good, useful and can serve not only as a guide for students but also a guide for advisors.  Helps advisors focus and know what skills and tasks students should be doing as well as what questions to ask students.  CAPS is a guide for thi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Consultation Points and Recommendations: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Consistency in Advisors is important from semester to semes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Utilize Multiple Measures for Assessmen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Link Advisor Training Topics to your model</a:t>
            </a:r>
            <a:r>
              <a:rPr b="1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</a:t>
            </a: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everything is clearly spelled out, these are the things you need to train advisors 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OPEN COMMUNICATION across the board and between boundaries</a:t>
            </a:r>
            <a:r>
              <a:rPr b="1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</a:t>
            </a: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critical in implementing a new mode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Consultation Points and Recommendations: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How to utilize advisor notes within CAPS Plan, integration of notes (Web based CAPS Plan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Training is needed to determine what is “appropriate information” for electronic advising not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Celeste Pardee’s work and chapter in NACADA Advisor Handbook addresses organizational mode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CAPS plan and data have great potential for  research projects regarding outcomes and retention.  Do students with CAPS Plans persist and meet academic/career goals? Potentially 4 comparison groups – ORT regular, non-ORT (developmental), Health ORT sections and Health non-ORT section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Use CAPS Plan for advisor notes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</a:t>
            </a: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helps advisors to focus on the content of the plan.  Good opportunity to help guide training component on “what to put (or not put) in student notes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4T12:53:09Z</dcterms:created>
  <dc:creator>cdoherty</dc:creator>
  <dc:description/>
  <dc:language>en-US</dc:language>
  <cp:lastModifiedBy>cdoherty</cp:lastModifiedBy>
  <dcterms:modified xsi:type="dcterms:W3CDTF">2004-06-15T13:30:34Z</dcterms:modified>
  <cp:revision>6</cp:revision>
  <dc:subject/>
  <dc:title> NACADA  SUMMER  INSTITUTE     </dc:title>
</cp:coreProperties>
</file>